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29505"/>
        <c:axId val="57989608"/>
      </c:barChart>
      <c:catAx>
        <c:axId val="229295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89608"/>
        <c:crosses val="autoZero"/>
        <c:auto val="1"/>
        <c:lblAlgn val="ctr"/>
        <c:lblOffset val="100"/>
        <c:noMultiLvlLbl val="0"/>
      </c:catAx>
      <c:valAx>
        <c:axId val="579896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295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9C6D-9159-4794-9FB0-C49C139C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F190-289B-4F83-9BE6-C02D374D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34FD-A7ED-42DC-85F9-CB83E6BF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A9B7-6EC7-47A7-9806-84582BE4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FB3-AFC8-4DC9-9A38-01AE7ACC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CA1F-EB6C-4EF3-B5B6-30A2548A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56BD-9F88-4B60-BB04-5D2ECB60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4B6D-14F6-4366-BA8B-F9BB2100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0DEE-AE05-4FDE-A29B-89490022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7CE-9C7F-4601-98F3-E4BB6570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DE83-F91A-4C4D-8826-8700C90E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7E15-FB50-4710-B7FB-F94479EC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420A31-CC68-4EED-900F-31A7DA3A23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